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371240" y="763200"/>
            <a:ext cx="5024520" cy="3768840"/>
          </a:xfrm>
          <a:prstGeom prst="rect">
            <a:avLst/>
          </a:prstGeom>
          <a:noFill/>
          <a:ln w="0">
            <a:noFill/>
          </a:ln>
        </p:spPr>
        <p:txBody>
          <a:bodyPr lIns="0" rIns="0" tIns="0" bIns="0" anchor="ctr">
            <a:no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840"/>
            <a:ext cx="62132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360" y="9555120"/>
            <a:ext cx="3368520" cy="5018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398840" y="9555120"/>
            <a:ext cx="3368880" cy="5018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112799-A4F2-452A-B57A-140E57BA089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D239D-F833-4E35-8C7E-2769B3E47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768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4000"/>
            <a:ext cx="906768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6D48A-7C1F-4D22-ACD6-6BBEF2A51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400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400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6DC38-7EBE-429F-AD18-6EDD0DD1D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832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400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400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93D5D-7C9E-4647-9E62-ED4956287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7680" cy="49881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141B1-6726-44FD-B570-CE525BB92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7680" cy="498816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C6691-0197-483E-829B-941E48C37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760" cy="498816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8320"/>
            <a:ext cx="4424760" cy="498816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0D2AA-660D-4208-8C01-AB9C1A8C3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C8E4E-EE7C-43A7-B438-554D5AD77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7680" cy="5828400"/>
          </a:xfrm>
          <a:prstGeom prst="rect">
            <a:avLst/>
          </a:prstGeom>
          <a:noFill/>
          <a:ln w="0">
            <a:noFill/>
          </a:ln>
        </p:spPr>
        <p:txBody>
          <a:bodyPr lIns="0" rIns="0" tIns="0" bIns="0" anchor="ctr">
            <a:no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D0D46-C494-40F2-A240-C7C00D4A8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8320"/>
            <a:ext cx="4424760" cy="498816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400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95287-813A-412B-8353-B7E88B661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760" cy="498816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400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3CB05-F0E3-4C98-A83A-D5FFBC155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4000"/>
            <a:ext cx="906768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EB470-BB09-4BEF-B9C6-94A0F8FE2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7680" cy="4988160"/>
          </a:xfrm>
          <a:prstGeom prst="rect">
            <a:avLst/>
          </a:prstGeom>
          <a:noFill/>
          <a:ln w="0">
            <a:noFill/>
          </a:ln>
        </p:spPr>
        <p:txBody>
          <a:bodyPr lIns="0" rIns="0" tIns="0" bIns="0" anchor="t">
            <a:normAutofit/>
          </a:bodyPr>
          <a:p>
            <a:pPr marL="428760" indent="-324000">
              <a:lnSpc>
                <a:spcPct val="8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81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8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81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8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8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8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3240" cy="52092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6886080"/>
            <a:ext cx="3190680" cy="52092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360" y="6886080"/>
            <a:ext cx="2343240" cy="5209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4047CA-3B9C-427F-BFA1-C6F4EFE3D1C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USIEP</a:t>
            </a:r>
            <a:endParaRPr b="0" lang="en-US" sz="4400" spc="-1" strike="noStrike">
              <a:solidFill>
                <a:srgbClr val="000000"/>
              </a:solidFill>
              <a:latin typeface="Arial"/>
            </a:endParaRPr>
          </a:p>
        </p:txBody>
      </p:sp>
      <p:sp>
        <p:nvSpPr>
          <p:cNvPr id="51"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28760" indent="0" algn="ctr">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uhan University </a:t>
            </a:r>
            <a:endParaRPr b="0" lang="en-US" sz="3200" spc="-1" strike="noStrike">
              <a:solidFill>
                <a:srgbClr val="000000"/>
              </a:solidFill>
              <a:latin typeface="Arial"/>
            </a:endParaRPr>
          </a:p>
          <a:p>
            <a:pPr marL="428760" indent="0" algn="ctr">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mmer Intensive English Program</a:t>
            </a:r>
            <a:endParaRPr b="0" lang="en-US" sz="3200" spc="-1" strike="noStrike">
              <a:solidFill>
                <a:srgbClr val="000000"/>
              </a:solidFill>
              <a:latin typeface="Arial"/>
            </a:endParaRPr>
          </a:p>
          <a:p>
            <a:pPr marL="428760" indent="0" algn="ctr">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28760" indent="0" algn="ctr">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July 16-August 10, 2007</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ain curriculum</a:t>
            </a:r>
            <a:endParaRPr b="0" lang="en-US" sz="4400" spc="-1" strike="noStrike">
              <a:solidFill>
                <a:srgbClr val="000000"/>
              </a:solidFill>
              <a:latin typeface="Arial"/>
            </a:endParaRPr>
          </a:p>
        </p:txBody>
      </p:sp>
      <p:sp>
        <p:nvSpPr>
          <p:cNvPr id="53" name="PlaceHolder 2"/>
          <p:cNvSpPr>
            <a:spLocks noGrp="1"/>
          </p:cNvSpPr>
          <p:nvPr>
            <p:ph/>
          </p:nvPr>
        </p:nvSpPr>
        <p:spPr>
          <a:xfrm>
            <a:off x="636480" y="1782720"/>
            <a:ext cx="9072720" cy="5075280"/>
          </a:xfrm>
          <a:prstGeom prst="rect">
            <a:avLst/>
          </a:prstGeom>
          <a:noFill/>
          <a:ln w="0">
            <a:noFill/>
          </a:ln>
        </p:spPr>
        <p:txBody>
          <a:bodyPr lIns="0" rIns="0" tIns="0" bIns="0" anchor="t">
            <a:normAutofit fontScale="99000"/>
          </a:bodyPr>
          <a:p>
            <a:pPr marL="424440" indent="-3207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will learn 10 Themes on Contemporary Culture in the USA from 10 teachers</a:t>
            </a:r>
            <a:endParaRPr b="0" lang="en-US" sz="3200" spc="-1" strike="noStrike">
              <a:solidFill>
                <a:srgbClr val="000000"/>
              </a:solidFill>
              <a:latin typeface="Arial"/>
            </a:endParaRPr>
          </a:p>
          <a:p>
            <a:pPr marL="424440" indent="-3207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re will be four topics from each teacher</a:t>
            </a:r>
            <a:endParaRPr b="0" lang="en-US" sz="3200" spc="-1" strike="noStrike">
              <a:solidFill>
                <a:srgbClr val="000000"/>
              </a:solidFill>
              <a:latin typeface="Arial"/>
            </a:endParaRPr>
          </a:p>
          <a:p>
            <a:pPr marL="424440" indent="-3207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will also learn how to give a formal (prepared) public speech, which you will give on the last day of class.</a:t>
            </a:r>
            <a:endParaRPr b="0" lang="en-US" sz="3200" spc="-1" strike="noStrike">
              <a:solidFill>
                <a:srgbClr val="000000"/>
              </a:solidFill>
              <a:latin typeface="Arial"/>
            </a:endParaRPr>
          </a:p>
          <a:p>
            <a:pPr marL="424440" indent="-3207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On Saturday August 4th, there will be a Speech Contest for the top 20 students as selected by the teachers, based on outstanding daily performance in class.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xtracurricular Activities</a:t>
            </a:r>
            <a:endParaRPr b="0" lang="en-US" sz="4400" spc="-1" strike="noStrike">
              <a:solidFill>
                <a:srgbClr val="000000"/>
              </a:solidFill>
              <a:latin typeface="Arial"/>
            </a:endParaRPr>
          </a:p>
        </p:txBody>
      </p:sp>
      <p:sp>
        <p:nvSpPr>
          <p:cNvPr id="55"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uesday/Thursday nights (starting Thursday July 10) will be Movie Nights.</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dnesday and Friday there will be baseball games at the Olympic field.</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re will also be a poetry group and might be some other groups/clubs, as well.</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teachers will also enjoy going out to eat and shopping with you.</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General values of the program:</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9072360" cy="5257800"/>
          </a:xfrm>
          <a:prstGeom prst="rect">
            <a:avLst/>
          </a:prstGeom>
          <a:noFill/>
          <a:ln w="0">
            <a:noFill/>
          </a:ln>
        </p:spPr>
        <p:txBody>
          <a:bodyPr lIns="0" rIns="0" tIns="0" bIns="0" anchor="t">
            <a:normAutofit/>
          </a:bodyPr>
          <a:p>
            <a:pPr marL="4287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1)  Practice Makes Perfect. </a:t>
            </a:r>
            <a:r>
              <a:rPr b="0" lang="en-GB" sz="1600" spc="-1" strike="noStrike">
                <a:solidFill>
                  <a:srgbClr val="000000"/>
                </a:solidFill>
                <a:latin typeface="Arial"/>
              </a:rPr>
              <a:t>Practice what you learn in class. Every day you should try to use some aspect of the lesson outside of class. Speak English as often as possible, to other members of the summer program or anyone who can speak with you.</a:t>
            </a:r>
            <a:endParaRPr b="0" lang="en-US" sz="1600" spc="-1" strike="noStrike">
              <a:solidFill>
                <a:srgbClr val="000000"/>
              </a:solidFill>
              <a:latin typeface="Arial"/>
            </a:endParaRPr>
          </a:p>
          <a:p>
            <a:pPr marL="4287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2) Ask Questions.</a:t>
            </a:r>
            <a:r>
              <a:rPr b="0" lang="en-GB" sz="1600" spc="-1" strike="noStrike">
                <a:solidFill>
                  <a:srgbClr val="000000"/>
                </a:solidFill>
                <a:latin typeface="Arial"/>
              </a:rPr>
              <a:t> When you have questions—about the lesson, about culture in the USA, or the English language—just ask them. Teachers from the USA welcome opportunities to answer questions...we don't view these as an unwanted interruption.</a:t>
            </a:r>
            <a:endParaRPr b="0" lang="en-US" sz="1600" spc="-1" strike="noStrike">
              <a:solidFill>
                <a:srgbClr val="000000"/>
              </a:solidFill>
              <a:latin typeface="Arial"/>
            </a:endParaRPr>
          </a:p>
          <a:p>
            <a:pPr marL="4287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3) Don't be Shy.</a:t>
            </a:r>
            <a:r>
              <a:rPr b="0" lang="en-GB" sz="1600" spc="-1" strike="noStrike">
                <a:solidFill>
                  <a:srgbClr val="000000"/>
                </a:solidFill>
                <a:latin typeface="Arial"/>
              </a:rPr>
              <a:t> Take risks. Don't worry about being perfectly correct. You can learn from guessing even if you make mistakes and are corrected. The classroom is a safe space to make mistakes.</a:t>
            </a:r>
            <a:endParaRPr b="0" lang="en-US" sz="1600" spc="-1" strike="noStrike">
              <a:solidFill>
                <a:srgbClr val="000000"/>
              </a:solidFill>
              <a:latin typeface="Arial"/>
            </a:endParaRPr>
          </a:p>
          <a:p>
            <a:pPr marL="4287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4) Find a Framework.</a:t>
            </a:r>
            <a:r>
              <a:rPr b="0" lang="en-GB" sz="1600" spc="-1" strike="noStrike">
                <a:solidFill>
                  <a:srgbClr val="000000"/>
                </a:solidFill>
                <a:latin typeface="Arial"/>
              </a:rPr>
              <a:t> Relate new words and information to what you already know and try also to make personal associations. Group or classify new words, structures, and concepts according to their characteristics.</a:t>
            </a:r>
            <a:endParaRPr b="0" lang="en-US" sz="1600" spc="-1" strike="noStrike">
              <a:solidFill>
                <a:srgbClr val="000000"/>
              </a:solidFill>
              <a:latin typeface="Arial"/>
            </a:endParaRPr>
          </a:p>
          <a:p>
            <a:pPr marL="4287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5) Reflect Every Day.</a:t>
            </a:r>
            <a:r>
              <a:rPr b="0" lang="en-GB" sz="1600" spc="-1" strike="noStrike">
                <a:solidFill>
                  <a:srgbClr val="000000"/>
                </a:solidFill>
                <a:latin typeface="Arial"/>
              </a:rPr>
              <a:t> Make a mental, oral, or written summary of what you learn in class..you can keep a learning journal if you want. Reflect on what you've learned and how you've learned it. Record at least one new aspect of what you've learned every day.</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hort One</a:t>
            </a:r>
            <a:endParaRPr b="0" lang="en-US" sz="4400" spc="-1" strike="noStrike">
              <a:solidFill>
                <a:srgbClr val="000000"/>
              </a:solidFill>
              <a:latin typeface="Arial"/>
            </a:endParaRPr>
          </a:p>
        </p:txBody>
      </p:sp>
      <p:sp>
        <p:nvSpPr>
          <p:cNvPr id="59"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  Carmen Ladman/Bob Eckhar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amily</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  Amber Challifou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 the country and the peopl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3)  Carol Kirwi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ood, diet, and restaurants</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4)  Alyssa Franci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s and travel</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5)  Jennifer Johnsto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ntertainment and fads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6)  Corliss Payn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Relationship between man &amp; na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7)  Don Yorty:</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music</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8)  Carol Markino:</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ducation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9)  Carolyn Seabury:</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News and the media in American cul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0) Erik Vos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Sports &amp; recreation in America</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hort Two</a:t>
            </a:r>
            <a:endParaRPr b="0" lang="en-US" sz="4400" spc="-1" strike="noStrike">
              <a:solidFill>
                <a:srgbClr val="000000"/>
              </a:solidFill>
              <a:latin typeface="Arial"/>
            </a:endParaRPr>
          </a:p>
        </p:txBody>
      </p:sp>
      <p:sp>
        <p:nvSpPr>
          <p:cNvPr id="61"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1)  Jenise Rowekamp:</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 the country and the peopl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2)  Kathy Olso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ood, diet, and restaurants</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3)  Pete Dully:</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Sports &amp; Recreation in American Cul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4)  Monica Lewell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amily</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5)  Ann Leak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News and media in American Cul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6)  Mike Lohr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Music</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7)  Tara Zahl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ducation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8)  Nicholas Santavicca:</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Relationship between Man &amp; Na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9)  Kim Omachinski:</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s and travel</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25160"/>
            <a:ext cx="9072720" cy="1176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hort Three</a:t>
            </a:r>
            <a:endParaRPr b="0" lang="en-US" sz="4400" spc="-1" strike="noStrike">
              <a:solidFill>
                <a:srgbClr val="000000"/>
              </a:solidFill>
              <a:latin typeface="Arial"/>
            </a:endParaRPr>
          </a:p>
        </p:txBody>
      </p:sp>
      <p:sp>
        <p:nvSpPr>
          <p:cNvPr id="63"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1)  Bill Holschuh:</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Relationship between Man &amp; Na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2)  Barbara Wookey:</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ood, diet, and restaurants</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3)  Sharon Peck:</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ducation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4)  Melissa Mendelso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Music</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5)  Dominic Reno:</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ntertainment and fads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6)  Michael Reed:</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Sports and recreation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7)  Rick Sentieri:</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News and the media in American Cul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8)  Jan Thoma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s and Travel</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9)  Susan Fassl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 the country and the peopl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30) Jenny Merrit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amily</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